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04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0" i="1" lang="en-US" sz="1800" spc="-1" strike="noStrike">
                <a:solidFill>
                  <a:srgbClr val="0000cc"/>
                </a:solidFill>
                <a:latin typeface="Arial Black"/>
              </a:rPr>
              <a:t>SBS Foru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340000">
            <a:off x="-1132560" y="1896840"/>
            <a:ext cx="266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BS  Implementers Foru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523880" y="1397160"/>
          <a:ext cx="6134400" cy="41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13440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Version 1.1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ohn Milio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AR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in Version 1.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laxed electrical specif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cket Error Check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nd-alone specif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ctrical specif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ration between 3 and 5 Vol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gic levels of SMBus devices conform to 3 Volt CMOS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tible with devices operating at 2 Vol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mode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482920"/>
            <a:ext cx="7999920" cy="2241360"/>
            <a:chOff x="762120" y="2482920"/>
            <a:chExt cx="7999920" cy="2241360"/>
          </a:xfrm>
        </p:grpSpPr>
        <p:sp>
          <p:nvSpPr>
            <p:cNvPr id="73" name=""/>
            <p:cNvSpPr/>
            <p:nvPr/>
          </p:nvSpPr>
          <p:spPr>
            <a:xfrm>
              <a:off x="1143000" y="4289400"/>
              <a:ext cx="7543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3000" y="4686480"/>
              <a:ext cx="7543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64080" y="39844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SC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63720" y="43657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SDA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8840" y="3483000"/>
              <a:ext cx="152280" cy="5335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39720" y="3635280"/>
              <a:ext cx="152640" cy="5335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35160" y="317808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192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288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19120" y="29494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87440" y="2873520"/>
              <a:ext cx="76320" cy="75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46320" y="4016520"/>
              <a:ext cx="0" cy="304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27200" y="4168800"/>
              <a:ext cx="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120" y="3467160"/>
              <a:ext cx="442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79720" y="2492280"/>
              <a:ext cx="99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Arial"/>
                </a:rPr>
                <a:t>DD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= 5 V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424512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89040" y="46371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3178080"/>
              <a:ext cx="13716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7920" y="3022560"/>
              <a:ext cx="1904760" cy="155520"/>
            </a:xfrm>
            <a:custGeom>
              <a:avLst/>
              <a:gdLst/>
              <a:ahLst/>
              <a:rect l="l" t="t" r="r" b="b"/>
              <a:pathLst>
                <a:path w="1200" h="98">
                  <a:moveTo>
                    <a:pt x="0" y="2"/>
                  </a:moveTo>
                  <a:lnTo>
                    <a:pt x="1199" y="0"/>
                  </a:lnTo>
                  <a:lnTo>
                    <a:pt x="1200" y="98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3281400"/>
              <a:ext cx="13082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00"/>
                  </a:solidFill>
                  <a:latin typeface="Arial"/>
                </a:rPr>
                <a:t>IH0,MIN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= 3.5V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00"/>
                  </a:solidFill>
                  <a:latin typeface="Arial"/>
                </a:rPr>
                <a:t>IL0,MAX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= 1.5V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1800" y="40924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4092480"/>
              <a:ext cx="0" cy="609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14760" y="464832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38320" y="424512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92520" y="3178080"/>
              <a:ext cx="13716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92520" y="3281400"/>
              <a:ext cx="13082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00"/>
                  </a:solidFill>
                  <a:latin typeface="Arial"/>
                </a:rPr>
                <a:t>IH1,MIN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= 2.1V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00"/>
                  </a:solidFill>
                  <a:latin typeface="Arial"/>
                </a:rPr>
                <a:t>IL1,MAX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= 0.9V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97440" y="40924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83240" y="4092480"/>
              <a:ext cx="0" cy="609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40400" y="464832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63960" y="424512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5360" y="3178080"/>
              <a:ext cx="1371600" cy="9144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45360" y="3281400"/>
              <a:ext cx="13078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00"/>
                  </a:solidFill>
                  <a:latin typeface="Arial"/>
                </a:rPr>
                <a:t>IH2,MIN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= 1.4V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00"/>
                  </a:solidFill>
                  <a:latin typeface="Arial"/>
                </a:rPr>
                <a:t>IL2,MAX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= 0.6V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49920" y="40924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35720" y="4092480"/>
              <a:ext cx="0" cy="609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92880" y="464832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6800" y="424512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214960" y="2960640"/>
              <a:ext cx="76320" cy="228600"/>
              <a:chOff x="5214960" y="2960640"/>
              <a:chExt cx="7632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5257800" y="3036960"/>
                <a:ext cx="0" cy="152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14960" y="29606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010280" y="2971800"/>
              <a:ext cx="76320" cy="228600"/>
              <a:chOff x="7010280" y="2971800"/>
              <a:chExt cx="76320" cy="228600"/>
            </a:xfrm>
          </p:grpSpPr>
          <p:sp>
            <p:nvSpPr>
              <p:cNvPr id="111" name=""/>
              <p:cNvSpPr/>
              <p:nvPr/>
            </p:nvSpPr>
            <p:spPr>
              <a:xfrm>
                <a:off x="7053120" y="3048120"/>
                <a:ext cx="0" cy="152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0280" y="29718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776840" y="2482920"/>
              <a:ext cx="1064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Arial"/>
                </a:rPr>
                <a:t>DD1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= 3 V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29320" y="2482920"/>
              <a:ext cx="1064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Arial"/>
                </a:rPr>
                <a:t>DD2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= 2 V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gic leve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1320" y="5562720"/>
            <a:ext cx="4114800" cy="380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MBus DC Low Sta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295280"/>
            <a:ext cx="4114800" cy="2210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29080" y="5334120"/>
            <a:ext cx="403848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08400" y="5214960"/>
            <a:ext cx="62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IL2,MAX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52760" y="1066320"/>
            <a:ext cx="0" cy="4876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95920" y="52149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5920" y="54403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5920" y="498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95920" y="48006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9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6440" y="556272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76440" y="533412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6440" y="510552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76440" y="495288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76440" y="422100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95920" y="40687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76440" y="441972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95920" y="42670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76440" y="350532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95920" y="33526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243828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95920" y="22860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29080" y="4950000"/>
            <a:ext cx="403848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08400" y="4830840"/>
            <a:ext cx="62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IL1,MAX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9080" y="4222800"/>
            <a:ext cx="403848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08400" y="4103640"/>
            <a:ext cx="62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IL0,MAX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25840" y="441972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03360" y="4300560"/>
            <a:ext cx="60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IH2,MI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29080" y="350208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06600" y="3382920"/>
            <a:ext cx="60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IH1,MI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29080" y="2435400"/>
            <a:ext cx="40384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06600" y="2209680"/>
            <a:ext cx="60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IH0,MI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5053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51055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4320" y="5345280"/>
            <a:ext cx="91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Arial"/>
              </a:rPr>
              <a:t>OL,MAX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8720" y="4930920"/>
            <a:ext cx="83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Arial"/>
              </a:rPr>
              <a:t>IL,MAX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3352680"/>
            <a:ext cx="789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Arial"/>
              </a:rPr>
              <a:t>IH,MI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600200"/>
            <a:ext cx="3657600" cy="3962520"/>
          </a:xfrm>
          <a:custGeom>
            <a:avLst/>
            <a:gdLst/>
            <a:ahLst/>
            <a:rect l="l" t="t" r="r" b="b"/>
            <a:pathLst>
              <a:path w="2304" h="2496">
                <a:moveTo>
                  <a:pt x="0" y="2496"/>
                </a:moveTo>
                <a:cubicBezTo>
                  <a:pt x="88" y="2168"/>
                  <a:pt x="176" y="1840"/>
                  <a:pt x="384" y="1536"/>
                </a:cubicBezTo>
                <a:cubicBezTo>
                  <a:pt x="592" y="1232"/>
                  <a:pt x="928" y="928"/>
                  <a:pt x="1248" y="672"/>
                </a:cubicBezTo>
                <a:cubicBezTo>
                  <a:pt x="1568" y="416"/>
                  <a:pt x="1936" y="208"/>
                  <a:pt x="2304" y="0"/>
                </a:cubicBezTo>
              </a:path>
            </a:pathLst>
          </a:custGeom>
          <a:noFill/>
          <a:ln w="93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8560" y="4510080"/>
            <a:ext cx="237240" cy="215640"/>
            <a:chOff x="4408560" y="4510080"/>
            <a:chExt cx="237240" cy="215640"/>
          </a:xfrm>
        </p:grpSpPr>
        <p:sp>
          <p:nvSpPr>
            <p:cNvPr id="155" name=""/>
            <p:cNvSpPr/>
            <p:nvPr/>
          </p:nvSpPr>
          <p:spPr>
            <a:xfrm>
              <a:off x="4408560" y="45100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3760" y="4524480"/>
              <a:ext cx="152280" cy="1522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18400" y="3581280"/>
            <a:ext cx="237240" cy="215640"/>
            <a:chOff x="5018400" y="3581280"/>
            <a:chExt cx="237240" cy="215640"/>
          </a:xfrm>
        </p:grpSpPr>
        <p:sp>
          <p:nvSpPr>
            <p:cNvPr id="158" name=""/>
            <p:cNvSpPr/>
            <p:nvPr/>
          </p:nvSpPr>
          <p:spPr>
            <a:xfrm>
              <a:off x="5018400" y="358128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43600" y="3595680"/>
              <a:ext cx="152280" cy="1522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 flipV="1">
            <a:off x="4267080" y="4419360"/>
            <a:ext cx="76320" cy="7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952880" y="3504960"/>
            <a:ext cx="76320" cy="7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6160" y="4452840"/>
            <a:ext cx="2169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ce 2 starts counting 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71480" y="3581280"/>
            <a:ext cx="2169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ce 1 starts counting 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905120"/>
            <a:ext cx="152280" cy="3657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78240" y="1752480"/>
            <a:ext cx="0" cy="4114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752480"/>
            <a:ext cx="0" cy="4114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1752480"/>
            <a:ext cx="0" cy="4114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057400"/>
            <a:ext cx="1219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205740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76440" y="1295280"/>
            <a:ext cx="152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95920" y="114300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29528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143000"/>
            <a:ext cx="789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Arial"/>
              </a:rPr>
              <a:t>IH,MAX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172200" y="243828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02800" y="137808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MBus DC High Sta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237360" y="2529000"/>
            <a:ext cx="237240" cy="215640"/>
            <a:chOff x="6237360" y="2529000"/>
            <a:chExt cx="237240" cy="215640"/>
          </a:xfrm>
        </p:grpSpPr>
        <p:sp>
          <p:nvSpPr>
            <p:cNvPr id="177" name=""/>
            <p:cNvSpPr/>
            <p:nvPr/>
          </p:nvSpPr>
          <p:spPr>
            <a:xfrm>
              <a:off x="6237360" y="25290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560" y="2543400"/>
              <a:ext cx="152280" cy="1522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386400" y="2514600"/>
            <a:ext cx="1233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ce 0 start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unting 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3160" y="525780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5135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0.6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43160" y="3322800"/>
            <a:ext cx="228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200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2.2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328920"/>
            <a:ext cx="0" cy="1928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4600" y="3886200"/>
            <a:ext cx="86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MBu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ise Tim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352680"/>
            <a:ext cx="213372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257800"/>
            <a:ext cx="99072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1828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rror detection mechani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cket Error Checking (PEC) introduced in version 1.1 of the specific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95280" y="3314880"/>
            <a:ext cx="5867280" cy="2399760"/>
            <a:chOff x="1295280" y="3314880"/>
            <a:chExt cx="5867280" cy="2399760"/>
          </a:xfrm>
        </p:grpSpPr>
        <p:sp>
          <p:nvSpPr>
            <p:cNvPr id="190" name=""/>
            <p:cNvSpPr/>
            <p:nvPr/>
          </p:nvSpPr>
          <p:spPr>
            <a:xfrm>
              <a:off x="5028840" y="3381480"/>
              <a:ext cx="2133720" cy="46656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28840" y="3848400"/>
              <a:ext cx="2133720" cy="46620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ata 1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28840" y="4781520"/>
              <a:ext cx="2133720" cy="46656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ata 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60200" y="426276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8840" y="5248440"/>
              <a:ext cx="2133720" cy="46620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cket Check Byte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3314880"/>
              <a:ext cx="2133360" cy="46656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5280" y="3781440"/>
              <a:ext cx="2133360" cy="46656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ata 1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5280" y="4714920"/>
              <a:ext cx="2133360" cy="466560"/>
            </a:xfrm>
            <a:prstGeom prst="rect">
              <a:avLst/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ata 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6280" y="419616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95560" y="4248360"/>
              <a:ext cx="866880" cy="533160"/>
            </a:xfrm>
            <a:prstGeom prst="rightArrow">
              <a:avLst>
                <a:gd name="adj1" fmla="val 50000"/>
                <a:gd name="adj2" fmla="val 40648"/>
              </a:avLst>
            </a:prstGeom>
            <a:solidFill>
              <a:srgbClr val="0000cc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iability &amp; error recovery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operability &amp; PEC auto-dete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828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EC Master checks and registers the capability of the Slave it is address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EC Slave always responds with LRC in a Master initiated Read type of protoco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1148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114800"/>
            <a:ext cx="152388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lave Addres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1148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4114800"/>
            <a:ext cx="378000" cy="3366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114800"/>
            <a:ext cx="1523880" cy="3366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ata  Byt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41148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4691160"/>
            <a:ext cx="1524240" cy="3366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P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6926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692600"/>
            <a:ext cx="152388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lave Addres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46926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692600"/>
            <a:ext cx="378000" cy="3366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4692600"/>
            <a:ext cx="1523880" cy="3366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Data Byt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46926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22560" y="35042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eive By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148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4400" y="4692600"/>
            <a:ext cx="37800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5640" y="4692600"/>
            <a:ext cx="377640" cy="33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257800"/>
            <a:ext cx="4952880" cy="152280"/>
          </a:xfrm>
          <a:custGeom>
            <a:avLst/>
            <a:gdLst/>
            <a:ahLst/>
            <a:rect l="l" t="t" r="r" b="b"/>
            <a:pathLst>
              <a:path w="3120" h="96">
                <a:moveTo>
                  <a:pt x="0" y="96"/>
                </a:moveTo>
                <a:lnTo>
                  <a:pt x="2928" y="96"/>
                </a:lnTo>
                <a:lnTo>
                  <a:pt x="3120" y="0"/>
                </a:ln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1240" y="5546880"/>
            <a:ext cx="475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cket Check Byte is implemented over the whole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ransaction including address and R/W field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nd-alone specific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iable SMBus syst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3886200"/>
            <a:ext cx="7239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343400"/>
            <a:ext cx="72392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11800" y="3413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C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11080" y="39304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15200" y="3843360"/>
            <a:ext cx="1066680" cy="1873080"/>
            <a:chOff x="7315200" y="3843360"/>
            <a:chExt cx="1066680" cy="1873080"/>
          </a:xfrm>
        </p:grpSpPr>
        <p:sp>
          <p:nvSpPr>
            <p:cNvPr id="230" name=""/>
            <p:cNvSpPr/>
            <p:nvPr/>
          </p:nvSpPr>
          <p:spPr>
            <a:xfrm>
              <a:off x="7662960" y="393192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7520" y="4344840"/>
              <a:ext cx="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0120" y="3843360"/>
              <a:ext cx="75960" cy="7596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4680" y="4300560"/>
              <a:ext cx="76320" cy="75960"/>
            </a:xfrm>
            <a:prstGeom prst="ellipse">
              <a:avLst/>
            </a:prstGeom>
            <a:solidFill>
              <a:srgbClr val="99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4878360"/>
              <a:ext cx="106668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SMBu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Devic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128600" y="1523880"/>
            <a:ext cx="928800" cy="2743200"/>
            <a:chOff x="1128600" y="1523880"/>
            <a:chExt cx="928800" cy="2743200"/>
          </a:xfrm>
        </p:grpSpPr>
        <p:sp>
          <p:nvSpPr>
            <p:cNvPr id="236" name=""/>
            <p:cNvSpPr/>
            <p:nvPr/>
          </p:nvSpPr>
          <p:spPr>
            <a:xfrm>
              <a:off x="1523880" y="2514600"/>
              <a:ext cx="152640" cy="5335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05120" y="2666880"/>
              <a:ext cx="152280" cy="5335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0200" y="220968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192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288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84520" y="19810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52480" y="1905120"/>
              <a:ext cx="76320" cy="75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1360" y="3048120"/>
              <a:ext cx="0" cy="7617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2240" y="3200400"/>
              <a:ext cx="0" cy="10666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249876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p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41520" y="1523880"/>
              <a:ext cx="487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ffff00"/>
                  </a:solidFill>
                  <a:latin typeface="Arial"/>
                </a:rPr>
                <a:t>DD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87560" y="1905120"/>
            <a:ext cx="846000" cy="2286000"/>
            <a:chOff x="2887560" y="1905120"/>
            <a:chExt cx="846000" cy="2286000"/>
          </a:xfrm>
        </p:grpSpPr>
        <p:sp>
          <p:nvSpPr>
            <p:cNvPr id="246" name=""/>
            <p:cNvSpPr/>
            <p:nvPr/>
          </p:nvSpPr>
          <p:spPr>
            <a:xfrm>
              <a:off x="2887560" y="2743200"/>
              <a:ext cx="380880" cy="3808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5920" y="281952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2514600"/>
              <a:ext cx="380880" cy="3808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44760" y="28954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43120" y="297180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52680" y="26668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84120" y="3124080"/>
              <a:ext cx="0" cy="609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28720" y="3276720"/>
              <a:ext cx="0" cy="914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84120" y="220968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92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288"/>
                  </a:ln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00120" y="1981080"/>
              <a:ext cx="0" cy="228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68440" y="1905120"/>
              <a:ext cx="76320" cy="7596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343400" y="1828800"/>
            <a:ext cx="1981080" cy="2438280"/>
            <a:chOff x="4343400" y="1828800"/>
            <a:chExt cx="1981080" cy="2438280"/>
          </a:xfrm>
        </p:grpSpPr>
        <p:grpSp>
          <p:nvGrpSpPr>
            <p:cNvPr id="258" name=""/>
            <p:cNvGrpSpPr/>
            <p:nvPr/>
          </p:nvGrpSpPr>
          <p:grpSpPr>
            <a:xfrm>
              <a:off x="4343400" y="1828800"/>
              <a:ext cx="846000" cy="1905120"/>
              <a:chOff x="4343400" y="1828800"/>
              <a:chExt cx="846000" cy="19051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43400" y="26672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41760" y="2743200"/>
                <a:ext cx="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51320" y="24386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00600" y="28195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998960" y="2895840"/>
                <a:ext cx="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08520" y="25909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84560" y="3200400"/>
                <a:ext cx="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39960" y="2133720"/>
                <a:ext cx="457200" cy="4572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92"/>
                    </a:moveTo>
                    <a:lnTo>
                      <a:pt x="0" y="0"/>
                    </a:lnTo>
                    <a:lnTo>
                      <a:pt x="288" y="0"/>
                    </a:lnTo>
                    <a:lnTo>
                      <a:pt x="288" y="288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55960" y="1905120"/>
                <a:ext cx="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24280" y="18288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27360" y="3048120"/>
                <a:ext cx="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4280" y="36576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4571640" y="3504960"/>
                <a:ext cx="152280" cy="152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478480" y="1828800"/>
              <a:ext cx="846000" cy="1905120"/>
              <a:chOff x="5478480" y="1828800"/>
              <a:chExt cx="846000" cy="1905120"/>
            </a:xfrm>
          </p:grpSpPr>
          <p:sp>
            <p:nvSpPr>
              <p:cNvPr id="273" name=""/>
              <p:cNvSpPr/>
              <p:nvPr/>
            </p:nvSpPr>
            <p:spPr>
              <a:xfrm>
                <a:off x="5478480" y="26672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76840" y="2743200"/>
                <a:ext cx="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86400" y="24386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35680" y="28195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34040" y="2895840"/>
                <a:ext cx="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43600" y="259092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19640" y="3200400"/>
                <a:ext cx="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5040" y="2133720"/>
                <a:ext cx="457200" cy="4572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92"/>
                    </a:moveTo>
                    <a:lnTo>
                      <a:pt x="0" y="0"/>
                    </a:lnTo>
                    <a:lnTo>
                      <a:pt x="288" y="0"/>
                    </a:lnTo>
                    <a:lnTo>
                      <a:pt x="288" y="288"/>
                    </a:lnTo>
                  </a:path>
                </a:pathLst>
              </a:custGeom>
              <a:noFill/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91040" y="1905120"/>
                <a:ext cx="0" cy="228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59360" y="18288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2440" y="3048120"/>
                <a:ext cx="0" cy="4572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59360" y="365760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706720" y="3504960"/>
                <a:ext cx="152280" cy="152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900760" y="3733920"/>
              <a:ext cx="0" cy="533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0360" y="3733920"/>
              <a:ext cx="0" cy="75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221360" y="2133720"/>
            <a:ext cx="3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7840" y="2286000"/>
            <a:ext cx="37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67600" y="2133720"/>
            <a:ext cx="3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2400" y="2274840"/>
            <a:ext cx="37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Lo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480" y="276372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o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13840" y="2743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o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5440" y="4495680"/>
            <a:ext cx="123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Low cos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Exponential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signal ris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15640" y="4495680"/>
            <a:ext cx="120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Higher cos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Linear ris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39600" y="4495680"/>
            <a:ext cx="268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Tolerates larg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bus capacitan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Hi current sourc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during signal ris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Low current sourc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when signal is lo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Black"/>
              </a:rPr>
              <a:t>ICs from Linear Technologi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sign constra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5238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PULLUP,MAX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 = 350 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termined primarily by the series protection resistors in Smart Batter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vices should be able to maintain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L,MAX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ile sinking 350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imum Rise Time: 1000 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termined by need to achieve maximum bit transfer rate of 100Kbs, as 20% of clock high half period (4 us min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fects the maximum bus capacity if you use Pull-ups or simple current souc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traints apply to each individual SMBus branch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Actual pull-up current can be larger if the sink current does not exceed 350 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nex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ynamic address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lusion of SMBus in PCI connector specif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Bus - besides batte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in Version 1.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al specifi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nd-alone specifica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ilding reliable SMBus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nex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wnload the SMBus specifications from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sbs-forum.or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 feedback to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edback@sbs-forum.or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k questions to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milios@usar.co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- Besides batter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Bus is adopted as the system control bus beyond the Smart Batte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plat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bo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kto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in Noteboo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art Battery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ck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ebook thermal zo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n speed contr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wer planes contr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in deskto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al zo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n spe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mory Serial Presence Det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cations control assist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in Serv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lligent Platform Management Initiati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eboard controll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ssis controll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agnostics &amp; monitor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 interfa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ral SMBus branches can interface to the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rough the Embedded Controll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rough the chip-s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828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ipset interfa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l 82371EB SMBus is an ISA dev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ic resour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OS sets I/O ran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Q fixed at IRQ 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ess to individual devic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rough ACPI dri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 through OEM driv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through the Embedded Control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C register interface (ACPI spec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Bus host interface (ACPI spec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SMBus branches can be addressed via the SB selector or transparently through the E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vices are accessed with hard-wired addres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rough SMBus/Device class driv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ff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rough ACPI control metho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15:17:11Z</dcterms:created>
  <dc:creator>John Milios</dc:creator>
  <dc:description/>
  <dc:language>en-US</dc:language>
  <cp:lastModifiedBy>John Milios</cp:lastModifiedBy>
  <cp:lastPrinted>1998-10-08T19:21:30Z</cp:lastPrinted>
  <dcterms:modified xsi:type="dcterms:W3CDTF">1998-10-22T15:49:51Z</dcterms:modified>
  <cp:revision>16</cp:revision>
  <dc:subject/>
  <dc:title>SMBus Version 1.1 </dc:title>
</cp:coreProperties>
</file>